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79C7-283B-42F5-BBA5-6C9F070F4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ould feel tired; The 8 essential amino acids; Yes, vit C is water-soluble and not stored in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DF67-FD9C-47E8-B9B4-42F4EAF2A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(21), water (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E62C-A2FD-473F-B1AF-FFA44ED33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essential a.a. = methionine, tryptophan, phenylalanine, leucine, threonine, valine, isoleucine, ly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12D2-1AF4-4962-9B72-36E23011D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DCA0-150F-4244-9A50-B02FE349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5B94-6C73-496A-A519-7EAFC505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2982-0749-4ADB-A8AE-C1475A9B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7E16-6837-47D9-9EDC-D674FD6D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EBD2-995C-4CAF-A019-498ED486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A72-D32E-4FB3-ACFC-29F16AB9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2758-B2F1-411D-8DBF-FDBD59FD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7C84-C6FE-43BD-8EE6-D6A97AE6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A92-9066-4E2D-8D3C-5C903149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91E8-90D9-499F-843A-EEC897B8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D19-E9AD-4E1D-8DB0-170BBB43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ED49-FDC6-4968-A5D3-8EE72C2C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B547-31C0-4C3B-A4EB-2798DD86D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F:\392\other392\Biology 392\Unit 3 - Chapters 2,38\molecule.gif"/>
          <p:cNvPicPr/>
          <p:nvPr/>
        </p:nvPicPr>
        <p:blipFill>
          <a:blip r:embed="rId1"/>
          <a:stretch/>
        </p:blipFill>
        <p:spPr>
          <a:xfrm>
            <a:off x="228600" y="533520"/>
            <a:ext cx="8448840" cy="5943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veuse"/>
              </a:rPr>
              <a:t>FOOD &amp; NUTR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3657600"/>
            <a:ext cx="3962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tion 38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Yumm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iology 3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F:\392\other392\Biology 392\Unit 3 - Chapters 2,38\fopyramid.gif"/>
          <p:cNvPicPr/>
          <p:nvPr/>
        </p:nvPicPr>
        <p:blipFill>
          <a:blip r:embed="rId2"/>
          <a:stretch/>
        </p:blipFill>
        <p:spPr>
          <a:xfrm>
            <a:off x="4724280" y="2938320"/>
            <a:ext cx="396252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TAM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ganic molecules that are needed by the body to help perform important chemical re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e pg 97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4 Essential Vitami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t- Soluble (A,D,E,K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ored in fatty t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-Soluble (C,B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not be stor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organic nutrients the body needs, usually in small amou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 in periodic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e page 97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 Ca (bones); Fe (needed for hemoglobin); Mg (normal function of nerves and muscl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t in sweat, urine and other was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mmary Qu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What are the 6 nutrients needed by the bod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What would happen if you did not eat enough carbs &amp; fa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Vegetarians may sometimes take dietary supplements. What, specifically, might they be missing in their meatless di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You ate a lot of oranges last week for a nice, healthy dose of vitamin C.  Must you eat an orange today?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you know what to e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tritionists have analyzed how much of each nutrient you need and what foods contain the combinations of e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nfo is compiled in the “food pyrami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ld Food Pyrami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3" descr="http://www.disabled-world.com/artman/uploads/pyramid.jpg"/>
          <p:cNvPicPr/>
          <p:nvPr/>
        </p:nvPicPr>
        <p:blipFill>
          <a:blip r:embed="rId1"/>
          <a:stretch/>
        </p:blipFill>
        <p:spPr>
          <a:xfrm>
            <a:off x="914400" y="106668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http://www.thefeltsource.com/New-Food-Pyramid-Large.jpg"/>
          <p:cNvPicPr/>
          <p:nvPr/>
        </p:nvPicPr>
        <p:blipFill>
          <a:blip r:embed="rId1"/>
          <a:stretch/>
        </p:blipFill>
        <p:spPr>
          <a:xfrm>
            <a:off x="1066680" y="914400"/>
            <a:ext cx="685800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ew Food Pyrami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eral Dietary Recommendation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·  3 to 5 servings of vegetab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·  2 to 4 servings of frui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·  2 to 3 servings of milk, yogurt &amp; chee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·  6 to 11 servings of bread, cereal, rice, &amp; pas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·  2 to 3 servings of meat, poultry, fish, dry beans, eggs &amp; nu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·  Use fats, oils &amp; sweets sparing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st what is “One Serving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Milk products group: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 cup about 8 oz. of milk or yogurt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2 slices of cheese, 1/8" thick (1½ oz.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2 cups of cottage chees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½ cups of ice milk, ice cream or frozen yogurt 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Meat group: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2 oz. to 3 oz. of cooked lean meat, poultry, or fish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2 egg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7 oz. tofu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 cup cooked legumes or dried beans or pea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4 tablespoons peanut butter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/2 cup nuts or seeds 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egetables: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/2 cup cooked vegetable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/2 cup raw chopped vegetable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 cup raw leafy vegetable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/2 to 3/4 cup vegetable juic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ruits: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 whole medium fruit (about 1 cup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/4 cup dried fruit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/2 cup canned fruit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/2 to 3/4 cup fruit juice </a:t>
            </a:r>
            <a:br>
              <a:rPr sz="1500"/>
            </a:b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Bread and Cereals: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 slice bread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 medium muffin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/2 hot dog bun or hamburger bun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/2 bagel or english muffin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4 small cracker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 tortilla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 cup cold cereal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/2 cup cooked cereal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/2 cup ric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·  1/2 cup pasta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you know…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any days can you survive without foo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any days …….without wa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mportant nutrient are vegetarians at risk of missing in their di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it OK to exceed the recommended amount of vitamin supplements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do we need foo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ING NEW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http://users.rcn.com/jkimball.ma.ultranet/BiologyPages/A/ATP.gif"/>
          <p:cNvPicPr/>
          <p:nvPr/>
        </p:nvPicPr>
        <p:blipFill>
          <a:blip r:embed="rId1"/>
          <a:stretch/>
        </p:blipFill>
        <p:spPr>
          <a:xfrm>
            <a:off x="4267080" y="2971800"/>
            <a:ext cx="446724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tr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study of food and its effects on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d in CALORI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mount of heat energy needed to raise the temp. of 1 gm(1mL) of water by 1 degree Cels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orie = 1 kilocalorie = 10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need about 2200 C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to 2800 C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per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TRI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body can extract energy &amp; nutrients from almost any type of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 Major Nutrient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tami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ts (lipi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important nutr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cell in the body needs water to complete many of the body’s processes and chemical re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loss causes problems in all body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HYDRATES</a:t>
            </a:r>
            <a:br>
              <a:rPr sz="40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jor source of Energ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 Forms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20932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simple sug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uits, honey, sugar c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o- &amp; di-saccharid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205704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Star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ins, potatoes, veget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Cellulose/Fi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tuce, bran, whole grain bre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not be broken down, but important for moving food efficient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F:\392\other392\Biology 392\Unit 3 - Chapters 2,38\simple sugars.jpg"/>
          <p:cNvPicPr/>
          <p:nvPr/>
        </p:nvPicPr>
        <p:blipFill>
          <a:blip r:embed="rId1"/>
          <a:stretch/>
        </p:blipFill>
        <p:spPr>
          <a:xfrm>
            <a:off x="304920" y="4800600"/>
            <a:ext cx="4695840" cy="1628640"/>
          </a:xfrm>
          <a:prstGeom prst="rect">
            <a:avLst/>
          </a:prstGeom>
          <a:ln w="0">
            <a:noFill/>
          </a:ln>
        </p:spPr>
      </p:pic>
      <p:cxnSp>
        <p:nvCxnSpPr>
          <p:cNvPr id="67" name="Straight Arrow Connector 8"/>
          <p:cNvCxnSpPr/>
          <p:nvPr/>
        </p:nvCxnSpPr>
        <p:spPr>
          <a:xfrm flipH="1">
            <a:off x="3123720" y="1980000"/>
            <a:ext cx="53424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Straight Arrow Connector 11"/>
          <p:cNvCxnSpPr/>
          <p:nvPr/>
        </p:nvCxnSpPr>
        <p:spPr>
          <a:xfrm>
            <a:off x="5257800" y="1980720"/>
            <a:ext cx="45792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UNCTION: Manufacture cell membranes, produce certain hormones, store energ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 FO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aturated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ontains only single bo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: butter, lard, other animal f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lid at Room Tem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saturated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1 or more double or triple bo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: Vegetable oi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quid at Room Tem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F:\392\other392\Biology 392\Unit 3 - Chapters 2,38\triglyc_spacefill.gif"/>
          <p:cNvPicPr/>
          <p:nvPr/>
        </p:nvPicPr>
        <p:blipFill>
          <a:blip r:embed="rId1"/>
          <a:stretch/>
        </p:blipFill>
        <p:spPr>
          <a:xfrm>
            <a:off x="6477120" y="1828800"/>
            <a:ext cx="217476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:\392\other392\Biology 392\Unit 3 - Chapters 2,38\aastruct.gif"/>
          <p:cNvPicPr/>
          <p:nvPr/>
        </p:nvPicPr>
        <p:blipFill>
          <a:blip r:embed="rId1"/>
          <a:stretch/>
        </p:blipFill>
        <p:spPr>
          <a:xfrm>
            <a:off x="6462720" y="3809880"/>
            <a:ext cx="2681280" cy="2438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: Provides body with material for growth &amp; rep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up parts of muscles, skin &amp; or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enzyme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S:  20 common amino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 can naturally produce only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et must supply other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ed ESSENTIAL amino ac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21:04:58Z</dcterms:created>
  <dc:creator>Joanne Lilliendahl</dc:creator>
  <dc:description/>
  <dc:language>en-US</dc:language>
  <cp:lastModifiedBy>MVanElli</cp:lastModifiedBy>
  <dcterms:modified xsi:type="dcterms:W3CDTF">2010-10-21T13:48:45Z</dcterms:modified>
  <cp:revision>30</cp:revision>
  <dc:subject/>
  <dc:title>FOOD &amp; NUTRITION</dc:title>
</cp:coreProperties>
</file>